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9F04E-EB4C-41A3-A920-30123904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CBB89-4AAE-41ED-9657-68AEEDFB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5D54D-4306-40B4-A81B-53DF734D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42E3E-BA0A-4915-999A-ECEE58B4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D27DC-FE0D-45DB-A596-EC9F2E8E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0593A-7270-4F86-8B0B-9F50B218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7A546-F90F-4D92-A0CC-30ABD93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3216C-8745-4F8C-B3B6-8C950FE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B39E1-9893-46B1-B920-AF6A188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CAA38-771C-4B70-B225-FA344699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DE62F-54BB-40A9-A0A9-31AC62C9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0FFF7-EBB7-42FD-A8F0-AFD9A524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F771-F673-4EB1-A485-D92839106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nd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ct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string concatenation operator and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utomatic conversion of an integer to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various fa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s can be concatenated into one long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e present the following facts for your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extracurricular edification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tring can contain numeric dig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Letters in the Hawaiian alphabet: 1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09480" y="1849320"/>
            <a:ext cx="7910640" cy="26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numeric value can be concatenated to a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aling code for Antarctica: " + 67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ear in which Leonardo da Vinci invented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the parachute: " + 151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peed of ketchup: " + 40 + " km per yea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09480" y="1849320"/>
            <a:ext cx="7910640" cy="26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numeric value can be concatenated to a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aling code for Antarctica: " + 67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ear in which Leonardo da Vinci invented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the parachute: " + 151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peed of ketchup: " + 40 + " km per yea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48800" y="1488960"/>
            <a:ext cx="7620840" cy="2071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e present the following facts for your extracurricular edific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s in the Hawaiian alphabet: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ling code for Antarctica: 6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 in which Leonardo da Vinci invented the parachute: 1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of ketchup: 40 km per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+ operator is also used for arithmetic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that it performs depends on the type of the information on which it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operands are strings, or if one is a string and one is a number, it performs string concate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operands are numeric, it adds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+ operator is evaluated left to right, but parentheses can be used to force th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609480" y="8110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i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ifference between the addition and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catenation opera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catenates and adds two numbers and prints th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24 and 45 concatenated: " + 24 + 4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24 and 45 added: " + (24 + 4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09480" y="8110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i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ifference between the addition and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catenation opera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catenates and adds two numbers and prints th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24 and 45 concatenated: " + 24 + 4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24 and 45 added: " + (24 + 4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156040" y="609480"/>
            <a:ext cx="4633560" cy="1402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4 and 45 concatenated: 24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4 and 45 added: 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tput is produced by the foll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95184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X: " + 2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: " + (15 + 50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Z: " + 300 + 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tput is produced by the foll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95184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X: " + 2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: " + (15 + 50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Z: " + 300 + 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528360" y="3733920"/>
            <a:ext cx="16437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: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Z: 30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ape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we wanted to print the quote charac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line would confuse the compiler because it would interpret the second quote as the end of th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 ("I said "Hello" to you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cape 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characters that represents a special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scape sequence begins with a backslash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 ("I said \"Hello\" to you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ape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Java escape sequ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2042280" y="1981080"/>
            <a:ext cx="4613040" cy="2755440"/>
            <a:chOff x="2042280" y="1981080"/>
            <a:chExt cx="4613040" cy="2755440"/>
          </a:xfrm>
        </p:grpSpPr>
        <p:sp>
          <p:nvSpPr>
            <p:cNvPr id="150" name="Text Box 6"/>
            <p:cNvSpPr/>
            <p:nvPr/>
          </p:nvSpPr>
          <p:spPr>
            <a:xfrm>
              <a:off x="2042280" y="1981080"/>
              <a:ext cx="233424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Escape Sequ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\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4520880" y="1981080"/>
              <a:ext cx="213444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Mea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backsp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ta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new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carriage retu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ouble qu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single qu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backsl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04920" y="4952880"/>
            <a:ext cx="84582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os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nd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plore some other fundamental programm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laration and use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s and operator prece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ing input from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609480" y="8110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s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escape sequ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poem (of sorts) on multiple 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ses are red,\n\tViolets are blue,\n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ugar is sweet,\n\tBut I have \"commitment issues\",\n\t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o I'd rather just be friends\n\tAt this point in our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relationship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609480" y="8110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s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escape sequ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poem (of sorts) on multiple 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ses are red,\n\tViolets are blue,\n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ugar is sweet,\n\tBut I have \"commitment issues\",\n\t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o I'd rather just be friends\n\tAt this point in our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relationship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479600" y="457200"/>
            <a:ext cx="6462360" cy="2622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oses are r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olets are bl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gar is swe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ut I have "commitment issues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 I'd rather just b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t this point in our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04920" y="12063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ing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that produces the following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855080" y="2362320"/>
            <a:ext cx="528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ank you all for coming to m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ight," he said mysteri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04920" y="12063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ing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that produces the following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855080" y="2362320"/>
            <a:ext cx="528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ank you all for coming to m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ight," he said mysteri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347760" y="3809880"/>
            <a:ext cx="841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\"Thank you all for "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coming to my home\ntonight,\" he said "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mysteriously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828800" y="18493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86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ame for a location in memory that holds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able declar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the variable's name and the type of information that it will 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847240" y="4294080"/>
            <a:ext cx="38383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, temp,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134360" y="5318280"/>
            <a:ext cx="67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ultiple variables can be created in one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1622160" y="3381480"/>
            <a:ext cx="1470240" cy="836640"/>
            <a:chOff x="1622160" y="3381480"/>
            <a:chExt cx="1470240" cy="836640"/>
          </a:xfrm>
        </p:grpSpPr>
        <p:sp>
          <p:nvSpPr>
            <p:cNvPr id="177" name="Text Box 8"/>
            <p:cNvSpPr/>
            <p:nvPr/>
          </p:nvSpPr>
          <p:spPr>
            <a:xfrm>
              <a:off x="1622160" y="33814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ata ty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863800" y="3760920"/>
              <a:ext cx="22860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4001400" y="3338640"/>
            <a:ext cx="2004840" cy="836640"/>
            <a:chOff x="4001400" y="3338640"/>
            <a:chExt cx="2004840" cy="836640"/>
          </a:xfrm>
        </p:grpSpPr>
        <p:sp>
          <p:nvSpPr>
            <p:cNvPr id="180" name="Text Box 11"/>
            <p:cNvSpPr/>
            <p:nvPr/>
          </p:nvSpPr>
          <p:spPr>
            <a:xfrm>
              <a:off x="4001400" y="333864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variable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H="1">
              <a:off x="4063680" y="3718080"/>
              <a:ext cx="1522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Initi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3059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can be given an initial value in the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287800" y="2422440"/>
            <a:ext cx="39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ase = 32, max = 14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28600" y="35053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variable is referenced in a program, its current value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ianoKey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609480" y="8110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ianoKey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eclaration, initialization, and use of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eger 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ano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he number of keys on a pi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s = 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piano has " + keys + " key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609480" y="8110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ianoKey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eclaration, initialization, and use of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eger 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ano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he number of keys on a pi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s = 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piano has " + keys + " key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2836080" y="533520"/>
            <a:ext cx="3414600" cy="109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piano has 88 k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13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ment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the valu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operator i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430440" y="28954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= 5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3886200" y="3352320"/>
            <a:ext cx="990720" cy="305280"/>
            <a:chOff x="3886200" y="3352320"/>
            <a:chExt cx="990720" cy="305280"/>
          </a:xfrm>
        </p:grpSpPr>
        <p:sp>
          <p:nvSpPr>
            <p:cNvPr id="197" name="Line 6"/>
            <p:cNvSpPr/>
            <p:nvPr/>
          </p:nvSpPr>
          <p:spPr>
            <a:xfrm>
              <a:off x="4876920" y="3352680"/>
              <a:ext cx="0" cy="304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 flipH="1">
              <a:off x="3886200" y="3657600"/>
              <a:ext cx="990720" cy="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 flipV="1">
              <a:off x="3886200" y="3352320"/>
              <a:ext cx="0" cy="304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52280" y="3962520"/>
            <a:ext cx="85345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that wa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ver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only assign a value to a variable that is consistent with the variable's declare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ometr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828800" y="1295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609480" y="8110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eometr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ssignment statement to chang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lue stored in a 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he number of sides of several geometric sha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7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with 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hept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10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ment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dec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1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dodec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609480" y="8110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eometr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ssignment statement to chang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lue stored in a 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he number of sides of several geometric sha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7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with 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hept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10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ment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dec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1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dodec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432880" y="457200"/>
            <a:ext cx="4176360" cy="170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heptagon has 7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decagon has 10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dodecagon has 12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dentifier that is similar to a variable except that it holds the same value during its entire 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name implies, it is constant, no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will issue an error if you try to change the value of a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, we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ier to declare a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 int MIN_HEIGHT = 6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 are useful for three importan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they give meaning to otherwise unclear lite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more than the literal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y facilitate program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nstant is used in multiple places, its value need only be set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, they formally establish that a value should not change, avoiding inadvertent errors by other progra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828800" y="2417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itiv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eight primitive data types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of them represent integ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f them represent floating point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m represents charac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ne of them represents boolean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eric Primitiv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the numeric primitive types is their size and the values they can st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1113840" y="2575080"/>
            <a:ext cx="7623720" cy="2836800"/>
            <a:chOff x="1113840" y="2575080"/>
            <a:chExt cx="7623720" cy="2836800"/>
          </a:xfrm>
        </p:grpSpPr>
        <p:sp>
          <p:nvSpPr>
            <p:cNvPr id="223" name="Rectangle 5"/>
            <p:cNvSpPr/>
            <p:nvPr/>
          </p:nvSpPr>
          <p:spPr>
            <a:xfrm>
              <a:off x="1113840" y="2575080"/>
              <a:ext cx="109944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Ty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h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lo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2289960" y="2575080"/>
              <a:ext cx="117396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8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16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32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64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32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64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3771360" y="2575080"/>
              <a:ext cx="496620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Min 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-1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-32,76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-2,147,483,6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&lt; -9 x 10</a:t>
              </a:r>
              <a:r>
                <a:rPr b="1" lang="en-US" sz="2000" spc="-1" strike="noStrike" baseline="30000">
                  <a:solidFill>
                    <a:srgbClr val="008000"/>
                  </a:solidFill>
                  <a:latin typeface="Arial Unicode MS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+/- 3.4 x 10</a:t>
              </a:r>
              <a:r>
                <a:rPr b="1" lang="en-US" sz="2000" spc="-1" strike="noStrike" baseline="30000">
                  <a:solidFill>
                    <a:srgbClr val="008000"/>
                  </a:solidFill>
                  <a:latin typeface="Arial Unicode MS"/>
                </a:rPr>
                <a:t>38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 with 7 significant dig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+/- 1.7 x 10</a:t>
              </a:r>
              <a:r>
                <a:rPr b="1" lang="en-US" sz="2000" spc="-1" strike="noStrike" baseline="30000">
                  <a:solidFill>
                    <a:srgbClr val="008000"/>
                  </a:solidFill>
                  <a:latin typeface="Arial Unicode MS"/>
                </a:rPr>
                <a:t>308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 with 15 significant dig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6020280" y="2575080"/>
              <a:ext cx="18676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Max 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1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32,7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2,147,483,64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&gt; 9 x 10</a:t>
              </a:r>
              <a:r>
                <a:rPr b="1" lang="en-US" sz="2000" spc="-1" strike="noStrike" baseline="30000">
                  <a:solidFill>
                    <a:srgbClr val="008000"/>
                  </a:solidFill>
                  <a:latin typeface="Arial Unicode MS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stores a singl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 literals are delimited by single qu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   'X'    '7'    '$'    ','    '\n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decla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topGrade = 'A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terminator = ';', separator = ' 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 between a primitive character variable, which holds only one character, an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, which can hold multipl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racter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rdered list of characters, with each character corresponding to a uniqu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in Java can store any character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code charact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code character set uses sixteen bits per character, allowing for 65,536 uniqu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n international character set, containing symbols and characters from many world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CII character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lder and smaller than Unicode, but is still quite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CII characters are a subset of the Unicode character set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1163160" y="3429000"/>
            <a:ext cx="6652440" cy="2287080"/>
            <a:chOff x="1163160" y="3429000"/>
            <a:chExt cx="6652440" cy="2287080"/>
          </a:xfrm>
        </p:grpSpPr>
        <p:sp>
          <p:nvSpPr>
            <p:cNvPr id="237" name="Rectangle 5"/>
            <p:cNvSpPr/>
            <p:nvPr/>
          </p:nvSpPr>
          <p:spPr>
            <a:xfrm>
              <a:off x="1163160" y="3429000"/>
              <a:ext cx="29862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uppercase let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lowercase let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punct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dig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special symb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control charac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4189320" y="3429000"/>
              <a:ext cx="362628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A, B, C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a, b, c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period, semi-colon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0, 1, 2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&amp;, |, \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carriage return, tab, 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ing lit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presented by putting double quotes around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This is a string literal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123 Main Stree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X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haracter string is an object in Java, defin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tring literal represent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boole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represents a true or fals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rved word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fal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only valid values for a boolea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done =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can also be used to represent any two states, such as a light bulb being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828800" y="2971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bination of one or more operators and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ithmetic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 numeric results and make use of the arithmetic oper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2820960" y="3124080"/>
            <a:ext cx="2686320" cy="1618560"/>
            <a:chOff x="2820960" y="3124080"/>
            <a:chExt cx="2686320" cy="1618560"/>
          </a:xfrm>
        </p:grpSpPr>
        <p:sp>
          <p:nvSpPr>
            <p:cNvPr id="250" name="Text Box 4"/>
            <p:cNvSpPr/>
            <p:nvPr/>
          </p:nvSpPr>
          <p:spPr>
            <a:xfrm>
              <a:off x="2820960" y="3124080"/>
              <a:ext cx="2009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Add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Subt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Multi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ivision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Remai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5097960" y="3124080"/>
              <a:ext cx="409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28600" y="49528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ither or both operands are floating point values, then the result is a floating poi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and Rema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13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oth operands to the division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integers, the result is an integer (the fractional part is discar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567160" y="2666880"/>
            <a:ext cx="3230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4 /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equals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/ 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equals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28600" y="380988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mainder operator (%) returns the remainder after dividing the first operand by the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567160" y="4876920"/>
            <a:ext cx="3230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4 %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equals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% 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equals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results of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908000" y="1987560"/>
            <a:ext cx="2487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/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/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/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.0 /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%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results of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908000" y="1987560"/>
            <a:ext cx="2487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/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/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/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.0 /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%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4582080" y="1987560"/>
            <a:ext cx="12780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or Prece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can be combined into larger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 =  total + count / max - offs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have a well-defined precedence which determines the order in which they are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, division, and remainder are evaluated before addition, subtraction, and string concat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hmetic operators with the same precedence are evaluated from left to right, but parentheses can be used to force the evaluatio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992160" y="25146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+ d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4802040" y="25146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* c - d /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92720" y="37339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+ c) - d %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465280" y="495288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* (c + (d - e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2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380880" y="114300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order are the operators evaluated in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992160" y="25146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+ d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4802040" y="25146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* c - d /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592720" y="37339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+ c) - d %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2465280" y="495288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* (c + (d - e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5"/>
          <p:cNvGrpSpPr/>
          <p:nvPr/>
        </p:nvGrpSpPr>
        <p:grpSpPr>
          <a:xfrm>
            <a:off x="1295280" y="2895480"/>
            <a:ext cx="5943600" cy="2743200"/>
            <a:chOff x="1295280" y="2895480"/>
            <a:chExt cx="5943600" cy="2743200"/>
          </a:xfrm>
        </p:grpSpPr>
        <p:sp>
          <p:nvSpPr>
            <p:cNvPr id="285" name="AutoShape 5"/>
            <p:cNvSpPr/>
            <p:nvPr/>
          </p:nvSpPr>
          <p:spPr>
            <a:xfrm>
              <a:off x="129528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"/>
            <p:cNvSpPr/>
            <p:nvPr/>
          </p:nvSpPr>
          <p:spPr>
            <a:xfrm>
              <a:off x="312408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7"/>
            <p:cNvSpPr/>
            <p:nvPr/>
          </p:nvSpPr>
          <p:spPr>
            <a:xfrm>
              <a:off x="251424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8"/>
            <p:cNvSpPr/>
            <p:nvPr/>
          </p:nvSpPr>
          <p:spPr>
            <a:xfrm>
              <a:off x="190476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510516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1"/>
            <p:cNvSpPr/>
            <p:nvPr/>
          </p:nvSpPr>
          <p:spPr>
            <a:xfrm>
              <a:off x="693432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2"/>
            <p:cNvSpPr/>
            <p:nvPr/>
          </p:nvSpPr>
          <p:spPr>
            <a:xfrm>
              <a:off x="632448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3"/>
            <p:cNvSpPr/>
            <p:nvPr/>
          </p:nvSpPr>
          <p:spPr>
            <a:xfrm>
              <a:off x="571500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5"/>
            <p:cNvSpPr/>
            <p:nvPr/>
          </p:nvSpPr>
          <p:spPr>
            <a:xfrm>
              <a:off x="2895480" y="411480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5029200" y="411480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7"/>
            <p:cNvSpPr/>
            <p:nvPr/>
          </p:nvSpPr>
          <p:spPr>
            <a:xfrm>
              <a:off x="4419360" y="411480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18"/>
            <p:cNvSpPr/>
            <p:nvPr/>
          </p:nvSpPr>
          <p:spPr>
            <a:xfrm>
              <a:off x="3657600" y="411480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0"/>
            <p:cNvSpPr/>
            <p:nvPr/>
          </p:nvSpPr>
          <p:spPr>
            <a:xfrm>
              <a:off x="2768400" y="533412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1"/>
            <p:cNvSpPr/>
            <p:nvPr/>
          </p:nvSpPr>
          <p:spPr>
            <a:xfrm>
              <a:off x="5054400" y="533412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2"/>
            <p:cNvSpPr/>
            <p:nvPr/>
          </p:nvSpPr>
          <p:spPr>
            <a:xfrm>
              <a:off x="4317840" y="533412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3555720" y="533412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Footer Placeholder 2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4"/>
          <p:cNvSpPr/>
          <p:nvPr/>
        </p:nvSpPr>
        <p:spPr>
          <a:xfrm>
            <a:off x="380880" y="114300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order are the operators evaluated in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ression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of a particular expression can be shown us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rators lower in the tree have higher precedence for that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68480" y="37339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(b – c) /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5"/>
          <p:cNvGrpSpPr/>
          <p:nvPr/>
        </p:nvGrpSpPr>
        <p:grpSpPr>
          <a:xfrm>
            <a:off x="4648320" y="3429000"/>
            <a:ext cx="2286000" cy="2819160"/>
            <a:chOff x="4648320" y="3429000"/>
            <a:chExt cx="2286000" cy="2819160"/>
          </a:xfrm>
        </p:grpSpPr>
        <p:sp>
          <p:nvSpPr>
            <p:cNvPr id="307" name="Oval 5"/>
            <p:cNvSpPr/>
            <p:nvPr/>
          </p:nvSpPr>
          <p:spPr>
            <a:xfrm>
              <a:off x="4648320" y="426708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6"/>
            <p:cNvSpPr/>
            <p:nvPr/>
          </p:nvSpPr>
          <p:spPr>
            <a:xfrm>
              <a:off x="4710240" y="4297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5319720" y="3458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9"/>
            <p:cNvSpPr/>
            <p:nvPr/>
          </p:nvSpPr>
          <p:spPr>
            <a:xfrm>
              <a:off x="6019920" y="419076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0"/>
            <p:cNvSpPr/>
            <p:nvPr/>
          </p:nvSpPr>
          <p:spPr>
            <a:xfrm>
              <a:off x="6081840" y="4221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1"/>
            <p:cNvSpPr/>
            <p:nvPr/>
          </p:nvSpPr>
          <p:spPr>
            <a:xfrm>
              <a:off x="5562720" y="495288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2"/>
            <p:cNvSpPr/>
            <p:nvPr/>
          </p:nvSpPr>
          <p:spPr>
            <a:xfrm>
              <a:off x="5624640" y="4983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3"/>
            <p:cNvSpPr/>
            <p:nvPr/>
          </p:nvSpPr>
          <p:spPr>
            <a:xfrm>
              <a:off x="6477120" y="495288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4"/>
            <p:cNvSpPr/>
            <p:nvPr/>
          </p:nvSpPr>
          <p:spPr>
            <a:xfrm>
              <a:off x="6539040" y="4983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"/>
            <p:cNvSpPr/>
            <p:nvPr/>
          </p:nvSpPr>
          <p:spPr>
            <a:xfrm>
              <a:off x="5181480" y="579096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6"/>
            <p:cNvSpPr/>
            <p:nvPr/>
          </p:nvSpPr>
          <p:spPr>
            <a:xfrm>
              <a:off x="5243760" y="5821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"/>
            <p:cNvSpPr/>
            <p:nvPr/>
          </p:nvSpPr>
          <p:spPr>
            <a:xfrm>
              <a:off x="5867280" y="579096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5929560" y="5821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9"/>
            <p:cNvSpPr/>
            <p:nvPr/>
          </p:nvSpPr>
          <p:spPr>
            <a:xfrm flipV="1">
              <a:off x="4876920" y="38862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"/>
            <p:cNvSpPr/>
            <p:nvPr/>
          </p:nvSpPr>
          <p:spPr>
            <a:xfrm flipH="1" flipV="1">
              <a:off x="5486040" y="388620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1"/>
            <p:cNvSpPr/>
            <p:nvPr/>
          </p:nvSpPr>
          <p:spPr>
            <a:xfrm flipV="1">
              <a:off x="5791320" y="4647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2"/>
            <p:cNvSpPr/>
            <p:nvPr/>
          </p:nvSpPr>
          <p:spPr>
            <a:xfrm flipH="1" flipV="1">
              <a:off x="6248520" y="4647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3"/>
            <p:cNvSpPr/>
            <p:nvPr/>
          </p:nvSpPr>
          <p:spPr>
            <a:xfrm flipV="1">
              <a:off x="5410080" y="541008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 flipH="1" flipV="1">
              <a:off x="5791320" y="54100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Footer Placeholder 2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intl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co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from Chapter 1, we invok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o print a character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represents a destination (the monitor screen) to which we can sen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1640" y="4038480"/>
            <a:ext cx="78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"Whatever you are, be a good one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779400" y="4571640"/>
            <a:ext cx="1295640" cy="834480"/>
            <a:chOff x="779400" y="4571640"/>
            <a:chExt cx="1295640" cy="834480"/>
          </a:xfrm>
        </p:grpSpPr>
        <p:sp>
          <p:nvSpPr>
            <p:cNvPr id="100" name="Text Box 6"/>
            <p:cNvSpPr/>
            <p:nvPr/>
          </p:nvSpPr>
          <p:spPr>
            <a:xfrm>
              <a:off x="915120" y="50072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 rot="16200000">
              <a:off x="1312920" y="4038120"/>
              <a:ext cx="228600" cy="1295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2099880" y="4495680"/>
            <a:ext cx="1177560" cy="1215000"/>
            <a:chOff x="2099880" y="4495680"/>
            <a:chExt cx="1177560" cy="1215000"/>
          </a:xfrm>
        </p:grpSpPr>
        <p:sp>
          <p:nvSpPr>
            <p:cNvPr id="103" name="Text Box 9"/>
            <p:cNvSpPr/>
            <p:nvPr/>
          </p:nvSpPr>
          <p:spPr>
            <a:xfrm>
              <a:off x="2099880" y="5006880"/>
              <a:ext cx="117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 flipV="1">
              <a:off x="2684520" y="449568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3362760" y="4648320"/>
            <a:ext cx="4798440" cy="1215000"/>
            <a:chOff x="3362760" y="4648320"/>
            <a:chExt cx="4798440" cy="1215000"/>
          </a:xfrm>
        </p:grpSpPr>
        <p:sp>
          <p:nvSpPr>
            <p:cNvPr id="106" name="Text Box 12"/>
            <p:cNvSpPr/>
            <p:nvPr/>
          </p:nvSpPr>
          <p:spPr>
            <a:xfrm>
              <a:off x="3362760" y="5159520"/>
              <a:ext cx="479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information provided to the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(parameter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 rot="16200000">
              <a:off x="5580360" y="2590920"/>
              <a:ext cx="380880" cy="44956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17000 h 4495680"/>
                <a:gd name="textAreaBottom" fmla="*/ 4378680 h 449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5"/>
                  </a:lnTo>
                  <a:cubicBezTo>
                    <a:pt x="10800" y="9755"/>
                    <a:pt x="5400" y="10655"/>
                    <a:pt x="0" y="10655"/>
                  </a:cubicBezTo>
                  <a:cubicBezTo>
                    <a:pt x="5400" y="10655"/>
                    <a:pt x="10800" y="11555"/>
                    <a:pt x="10800" y="1245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operator has a lower precedence than the arithmetic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719800" y="2347920"/>
            <a:ext cx="499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First the expression on the righ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ide of the = operator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478520" y="5241960"/>
            <a:ext cx="408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hen the result is stored i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variable on the left h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640880" y="326088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swer  =  sum / 4 + MAX * lowe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3924360" y="371808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2857680" y="371808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4533840" y="371808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448240" y="371808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1"/>
          <p:cNvSpPr/>
          <p:nvPr/>
        </p:nvSpPr>
        <p:spPr>
          <a:xfrm flipV="1" rot="16200000">
            <a:off x="4953240" y="2917800"/>
            <a:ext cx="304560" cy="3276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2"/>
          <p:cNvCxnSpPr>
            <a:stCxn id="337" idx="1"/>
          </p:cNvCxnSpPr>
          <p:nvPr/>
        </p:nvCxnSpPr>
        <p:spPr>
          <a:xfrm flipV="1" rot="16200000">
            <a:off x="3401640" y="3020400"/>
            <a:ext cx="397440" cy="3010680"/>
          </a:xfrm>
          <a:prstGeom prst="bentConnector4">
            <a:avLst>
              <a:gd name="adj1" fmla="val -53581"/>
              <a:gd name="adj2" fmla="val 100000"/>
            </a:avLst>
          </a:prstGeom>
          <a:ln w="31680">
            <a:solidFill>
              <a:srgbClr val="ff3300"/>
            </a:solidFill>
            <a:miter/>
            <a:tailEnd len="med" type="triangle" w="lg"/>
          </a:ln>
        </p:spPr>
      </p:cxnSp>
      <p:sp>
        <p:nvSpPr>
          <p:cNvPr id="339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ght and left hand sides of an assignment statement can contain the sam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3100680" y="2362320"/>
            <a:ext cx="33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First, one is added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original value of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604880" y="4722840"/>
            <a:ext cx="535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hen the result is stored back into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(overwriting the original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440080" y="319896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=  count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 flipV="1" rot="16200000">
            <a:off x="4609800" y="331236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AutoShape 8"/>
          <p:cNvCxnSpPr>
            <a:stCxn id="345" idx="1"/>
          </p:cNvCxnSpPr>
          <p:nvPr/>
        </p:nvCxnSpPr>
        <p:spPr>
          <a:xfrm flipV="1" rot="16200000">
            <a:off x="3644280" y="3010680"/>
            <a:ext cx="320040" cy="1916640"/>
          </a:xfrm>
          <a:prstGeom prst="bentConnector4">
            <a:avLst>
              <a:gd name="adj1" fmla="val -66666"/>
              <a:gd name="adj2" fmla="val 99567"/>
            </a:avLst>
          </a:prstGeom>
          <a:ln w="31680">
            <a:solidFill>
              <a:srgbClr val="ff3300"/>
            </a:solidFill>
            <a:miter/>
            <a:tailEnd len="med" type="triangle" w="lg"/>
          </a:ln>
        </p:spPr>
      </p:cxnSp>
      <p:sp>
        <p:nvSpPr>
          <p:cNvPr id="347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ment and Dec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decrement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perators use only one ope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unctionally equivalen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ment and Dec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 and decrement operators can be appli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tfix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fix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+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ed as part of a larger expression, the two forms can have differen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ir subtleties, the increment and decrement operators should be used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we perform an operation on a variable, and then store the result back into tha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rovid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implify tha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 += cou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 = num + cou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assignment operators in Java, including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"/>
          <p:cNvGrpSpPr/>
          <p:nvPr/>
        </p:nvGrpSpPr>
        <p:grpSpPr>
          <a:xfrm>
            <a:off x="1155600" y="2286000"/>
            <a:ext cx="6235560" cy="3011400"/>
            <a:chOff x="1155600" y="2286000"/>
            <a:chExt cx="6235560" cy="3011400"/>
          </a:xfrm>
        </p:grpSpPr>
        <p:sp>
          <p:nvSpPr>
            <p:cNvPr id="360" name="Rectangle 5"/>
            <p:cNvSpPr/>
            <p:nvPr/>
          </p:nvSpPr>
          <p:spPr>
            <a:xfrm>
              <a:off x="1155600" y="2286000"/>
              <a:ext cx="168912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+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-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*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/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6"/>
            <p:cNvSpPr/>
            <p:nvPr/>
          </p:nvSpPr>
          <p:spPr>
            <a:xfrm>
              <a:off x="3062160" y="2286000"/>
              <a:ext cx="168912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+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-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*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/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%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"/>
            <p:cNvSpPr/>
            <p:nvPr/>
          </p:nvSpPr>
          <p:spPr>
            <a:xfrm>
              <a:off x="5140080" y="2286000"/>
              <a:ext cx="225108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Equivalent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+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-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*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/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%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ght hand side of an assignment operator can be a complex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ire right-hand expression is evaluated first, then the result is combined with the original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/= (total-MIN) %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= result / ((total-MIN) % n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of some assignment operators depends on the types of the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operand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are strings, the assignment operator performs string concat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of an assignment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lways consistent with the behavior of the corresponding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4"/>
          <p:cNvSpPr/>
          <p:nvPr/>
        </p:nvSpPr>
        <p:spPr>
          <a:xfrm>
            <a:off x="1828800" y="3505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convenient to convert data from one typ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n a particular situation we may want to treat an integer as a floating poi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versions do not change the type of a variable or the value that's stored in it – they only convert a value as part of a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int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provides another servic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simila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, except that it does not advance to the nex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nything printed afte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will appear on the sam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w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dening conver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afest because they tend to go from a small data type to a larger one (such 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rrowing conver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lose information because they tend to go from a large data type to a smaller one (such a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, data conversions can occur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fig02_05.tif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2405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fig02_06.tif"/>
          <p:cNvPicPr/>
          <p:nvPr/>
        </p:nvPicPr>
        <p:blipFill>
          <a:blip r:embed="rId2"/>
          <a:stretch/>
        </p:blipFill>
        <p:spPr>
          <a:xfrm>
            <a:off x="4800600" y="2286000"/>
            <a:ext cx="3733920" cy="2408400"/>
          </a:xfrm>
          <a:prstGeom prst="rect">
            <a:avLst/>
          </a:prstGeom>
          <a:ln w="0">
            <a:noFill/>
          </a:ln>
        </p:spPr>
      </p:pic>
      <p:sp>
        <p:nvSpPr>
          <p:cNvPr id="384" name="TextBox 6"/>
          <p:cNvSpPr/>
          <p:nvPr/>
        </p:nvSpPr>
        <p:spPr>
          <a:xfrm>
            <a:off x="1159560" y="182880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ning Con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5351760" y="18288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rowing Con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ment con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when a value of one type is assigned to a variable of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ollars = 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money = dolla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widening conversions can happen via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value or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d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ppens automatically when operators in expressions convert their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count = 1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sum = 490.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 = sum / cou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a floating point value to perform the divis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st powerful, and dangerous, technique for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idening and narrowing conversions can be accomplished by explicitly casting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st, the type is put in parentheses in front of the value being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total = 5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result = (float) total /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the cast, the fractional part of the answer would be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1828800" y="40766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generally need input on which to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provides convenient methods for reading input values of various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an be set up to read input from various sources, including the user typing values on the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board input is represent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In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line creat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that reads from the keyboa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scan = new Scanner (System.i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crea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reated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an be used to invoke various input methods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 = scan.next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In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library, and must be imported into a program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ads all of the input until the end of the line i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tails of object creation and class libraries are discussed further in 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609480" y="45720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cho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nextLine method of the Scanner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o read a string from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character string from the user and prints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mess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line of text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entered: \"" + message + "\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48360" y="762120"/>
            <a:ext cx="794052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untdow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ifference between print and printl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wo lines of output representing a rocket count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hree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wo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One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Zero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Liftoff!"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on first output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Houston, we have a problem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609480" y="45720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cho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nextLine method of the Scanner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o read a string from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character string from the user and prints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mess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line of text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entered: \"" + message + "\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1403280" y="228600"/>
            <a:ext cx="6462360" cy="170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line of te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You want fries with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: "You want fries with that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Tok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specified otherwis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t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separate the elements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th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space includes space characters, tabs, new lin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reads the next input token and returns it as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data of particula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asMileag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609480" y="6984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asMilea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Scanner class to read numeric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asMile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alculates fuel efficiency based on values entered by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l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allons, mp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609480" y="160020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mile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le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gallons of fuel us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allons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pg = miles / gall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iles Per Gallon: " + mp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609480" y="160020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mile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le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gallons of fuel us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allons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pg = miles / gall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iles Per Gallon: " + mp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1662120" y="1295280"/>
            <a:ext cx="5852880" cy="170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number of miles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gallons of fuel used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les Per Gallon: 29.285714285714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4"/>
          <p:cNvSpPr/>
          <p:nvPr/>
        </p:nvSpPr>
        <p:spPr>
          <a:xfrm>
            <a:off x="1828800" y="4606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to Graph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few sections of each chapter of the textbook focus on graphics and 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icture or drawing must be digitized for storage on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icture is made up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icture elements), and each pixel is stored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ixels used to represent a pictur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ctur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ixels that can be displayed by a monitor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itor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28600" y="10666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gitized picture with a small portion magn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685800" y="1981080"/>
            <a:ext cx="7696080" cy="3581640"/>
            <a:chOff x="685800" y="1981080"/>
            <a:chExt cx="7696080" cy="3581640"/>
          </a:xfrm>
        </p:grpSpPr>
        <p:sp>
          <p:nvSpPr>
            <p:cNvPr id="434" name="TextBox 5"/>
            <p:cNvSpPr/>
            <p:nvPr/>
          </p:nvSpPr>
          <p:spPr>
            <a:xfrm>
              <a:off x="685800" y="1981080"/>
              <a:ext cx="769608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Picture 5" descr="fig02_08.tif"/>
            <p:cNvPicPr/>
            <p:nvPr/>
          </p:nvPicPr>
          <p:blipFill>
            <a:blip r:embed="rId1"/>
            <a:stretch/>
          </p:blipFill>
          <p:spPr>
            <a:xfrm>
              <a:off x="954720" y="2189520"/>
              <a:ext cx="7157880" cy="316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ixel can be identified using a two-dimensional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ferring to a pixel in a Java program, we use a coordinate system with the origin in the top-left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2210400" y="3672000"/>
            <a:ext cx="4797720" cy="2654280"/>
            <a:chOff x="2210400" y="3672000"/>
            <a:chExt cx="4797720" cy="2654280"/>
          </a:xfrm>
        </p:grpSpPr>
        <p:sp>
          <p:nvSpPr>
            <p:cNvPr id="439" name="Line 5"/>
            <p:cNvSpPr/>
            <p:nvPr/>
          </p:nvSpPr>
          <p:spPr>
            <a:xfrm>
              <a:off x="2819160" y="4052880"/>
              <a:ext cx="0" cy="2133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6"/>
            <p:cNvSpPr/>
            <p:nvPr/>
          </p:nvSpPr>
          <p:spPr>
            <a:xfrm>
              <a:off x="2819160" y="4052880"/>
              <a:ext cx="4114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7"/>
            <p:cNvSpPr/>
            <p:nvPr/>
          </p:nvSpPr>
          <p:spPr>
            <a:xfrm>
              <a:off x="2363760" y="5958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8"/>
            <p:cNvSpPr/>
            <p:nvPr/>
          </p:nvSpPr>
          <p:spPr>
            <a:xfrm>
              <a:off x="6662880" y="36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9"/>
            <p:cNvSpPr/>
            <p:nvPr/>
          </p:nvSpPr>
          <p:spPr>
            <a:xfrm>
              <a:off x="2210400" y="367200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0,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Line 10"/>
          <p:cNvSpPr/>
          <p:nvPr/>
        </p:nvSpPr>
        <p:spPr>
          <a:xfrm>
            <a:off x="2819520" y="51339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>
            <a:off x="5181480" y="406728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4877640" y="51339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12, 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4884480" y="3610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2363760" y="4943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1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ack and white picture could be stored using one bit per pixel (0 = white and 1 = bl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ored picture requires more information; there are several techniques for representing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or can be represented as a mixture of the three additive primary colors Red, Green, and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lor is represented by three numbers between 0 and 255 that collectively are calle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GB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48360" y="762120"/>
            <a:ext cx="794052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untdow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ifference between print and printl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wo lines of output representing a rocket count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hree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wo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One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Zero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Liftoff!"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on first output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Houston, we have a problem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478880" y="533520"/>
            <a:ext cx="6310080" cy="1402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... Two... One... Zero... Liftof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uston, we hav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lor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or in a Java program is represented as an object creat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lso contains several predefined colors, including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8"/>
          <p:cNvGrpSpPr/>
          <p:nvPr/>
        </p:nvGrpSpPr>
        <p:grpSpPr>
          <a:xfrm>
            <a:off x="2058840" y="3352680"/>
            <a:ext cx="4644720" cy="2450520"/>
            <a:chOff x="2058840" y="3352680"/>
            <a:chExt cx="4644720" cy="2450520"/>
          </a:xfrm>
        </p:grpSpPr>
        <p:sp>
          <p:nvSpPr>
            <p:cNvPr id="456" name="Text Box 5"/>
            <p:cNvSpPr/>
            <p:nvPr/>
          </p:nvSpPr>
          <p:spPr>
            <a:xfrm>
              <a:off x="2058840" y="3352680"/>
              <a:ext cx="2009520" cy="24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 Unicode MS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bl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b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cy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o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yel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6"/>
            <p:cNvSpPr/>
            <p:nvPr/>
          </p:nvSpPr>
          <p:spPr>
            <a:xfrm>
              <a:off x="4541760" y="3352680"/>
              <a:ext cx="2161800" cy="24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 Unicode MS"/>
                </a:rPr>
                <a:t>RGB 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, 0,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, 0, 2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, 255, 2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55, 200,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55, 255, 2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55, 255,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1828800" y="51577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tand-alone program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(like the ones we've seen so f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gram that is intended to be transported over the Web and executed using a web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 also can be executed using the appletviewer tool of the Java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 doesn't hav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there are several special methods that serve specific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executed automatically whenever the applet’s contents ar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accepts a parameter that is an objec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defin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phics con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hich we can draw shapes an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has several methods for drawing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reate an applet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te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kes u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explored in more detail in 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instein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609480" y="45720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instei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basic appl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Appl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instein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pp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quotation by Albert Einstein among some sha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50, 50, 40, 40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60, 80, 225, 3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t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Oval (75, 65, 20, 20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35, 60, 100, 12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Out of clutter, find simplicity.", 110, 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-- Albert Einstein", 13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609480" y="45720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instei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basic appl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Appl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instein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pp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quotation by Albert Einstein among some sha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50, 50, 40, 40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60, 80, 225, 3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t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Oval (75, 65, 20, 20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35, 60, 100, 12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Out of clutter, find simplicity.", 110, 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-- Albert Einstein", 13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7"/>
          <p:cNvGrpSpPr/>
          <p:nvPr/>
        </p:nvGrpSpPr>
        <p:grpSpPr>
          <a:xfrm>
            <a:off x="1981080" y="345960"/>
            <a:ext cx="5181840" cy="3566520"/>
            <a:chOff x="1981080" y="345960"/>
            <a:chExt cx="5181840" cy="3566520"/>
          </a:xfrm>
        </p:grpSpPr>
        <p:sp>
          <p:nvSpPr>
            <p:cNvPr id="477" name="TextBox 4"/>
            <p:cNvSpPr/>
            <p:nvPr/>
          </p:nvSpPr>
          <p:spPr>
            <a:xfrm>
              <a:off x="1981080" y="345960"/>
              <a:ext cx="5181840" cy="356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Picture 6" descr="Screen shot 2011-02-12 at 7.05.21 PM.png"/>
            <p:cNvPicPr/>
            <p:nvPr/>
          </p:nvPicPr>
          <p:blipFill>
            <a:blip r:embed="rId1"/>
            <a:stretch/>
          </p:blipFill>
          <p:spPr>
            <a:xfrm>
              <a:off x="2361960" y="752400"/>
              <a:ext cx="4420080" cy="2718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TML applet T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575640" y="3733920"/>
            <a:ext cx="7998840" cy="2562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The Einstein Applet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pplet code="Einstein.class" width=350 height=175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28600" y="10666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 is embedded into an HTML file using a tag that references the bytecode file of the ap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tecode version of the program is transported across the web and executed by a Java interpreter that is part of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"/>
          <p:cNvSpPr/>
          <p:nvPr/>
        </p:nvSpPr>
        <p:spPr>
          <a:xfrm>
            <a:off x="1828800" y="5715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plore some of the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hat draw shapes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ape can be filled or unfilled, depending on which method is inv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parameters specify coordinates and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s with curves, like an oval, are usually drawn by specifying the shape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ing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c can be thought of as a section of an 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ing concatenation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) is used to append one string to the end of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Peanut butter " + "and jell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also be used to append a number to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literal cannot be broken across two lines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a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941760" y="1397160"/>
            <a:ext cx="6906960" cy="3479760"/>
            <a:chOff x="941760" y="1397160"/>
            <a:chExt cx="6906960" cy="3479760"/>
          </a:xfrm>
        </p:grpSpPr>
        <p:sp>
          <p:nvSpPr>
            <p:cNvPr id="492" name="Line 4"/>
            <p:cNvSpPr/>
            <p:nvPr/>
          </p:nvSpPr>
          <p:spPr>
            <a:xfrm>
              <a:off x="1295640" y="1752480"/>
              <a:ext cx="65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5"/>
            <p:cNvSpPr/>
            <p:nvPr/>
          </p:nvSpPr>
          <p:spPr>
            <a:xfrm>
              <a:off x="1295640" y="1752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6"/>
            <p:cNvSpPr/>
            <p:nvPr/>
          </p:nvSpPr>
          <p:spPr>
            <a:xfrm>
              <a:off x="731700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7"/>
            <p:cNvSpPr/>
            <p:nvPr/>
          </p:nvSpPr>
          <p:spPr>
            <a:xfrm>
              <a:off x="94176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8"/>
          <p:cNvSpPr/>
          <p:nvPr/>
        </p:nvSpPr>
        <p:spPr>
          <a:xfrm>
            <a:off x="1550880" y="1371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86508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1752480" y="1752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1"/>
          <p:cNvSpPr/>
          <p:nvPr/>
        </p:nvSpPr>
        <p:spPr>
          <a:xfrm>
            <a:off x="1295280" y="2362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5221080" y="1371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878040" y="33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4"/>
          <p:cNvSpPr/>
          <p:nvPr/>
        </p:nvSpPr>
        <p:spPr>
          <a:xfrm>
            <a:off x="5486400" y="17524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5"/>
          <p:cNvSpPr/>
          <p:nvPr/>
        </p:nvSpPr>
        <p:spPr>
          <a:xfrm>
            <a:off x="1295280" y="35053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6"/>
          <p:cNvGrpSpPr/>
          <p:nvPr/>
        </p:nvGrpSpPr>
        <p:grpSpPr>
          <a:xfrm>
            <a:off x="2288520" y="4648320"/>
            <a:ext cx="5057640" cy="1161000"/>
            <a:chOff x="2288520" y="4648320"/>
            <a:chExt cx="5057640" cy="1161000"/>
          </a:xfrm>
        </p:grpSpPr>
        <p:sp>
          <p:nvSpPr>
            <p:cNvPr id="505" name="Text Box 17"/>
            <p:cNvSpPr/>
            <p:nvPr/>
          </p:nvSpPr>
          <p:spPr>
            <a:xfrm>
              <a:off x="2288520" y="4648320"/>
              <a:ext cx="50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page.drawLine (10, 20, 150, 45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288520" y="5410440"/>
              <a:ext cx="50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page.drawLine (150, 45, 10, 20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9"/>
            <p:cNvSpPr/>
            <p:nvPr/>
          </p:nvSpPr>
          <p:spPr>
            <a:xfrm>
              <a:off x="4551120" y="503100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20"/>
          <p:cNvSpPr/>
          <p:nvPr/>
        </p:nvSpPr>
        <p:spPr>
          <a:xfrm>
            <a:off x="1752480" y="2362320"/>
            <a:ext cx="3733920" cy="1143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2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a Rect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916200" y="1457280"/>
            <a:ext cx="6906960" cy="3479760"/>
            <a:chOff x="916200" y="1457280"/>
            <a:chExt cx="6906960" cy="3479760"/>
          </a:xfrm>
        </p:grpSpPr>
        <p:sp>
          <p:nvSpPr>
            <p:cNvPr id="512" name="Line 4"/>
            <p:cNvSpPr/>
            <p:nvPr/>
          </p:nvSpPr>
          <p:spPr>
            <a:xfrm>
              <a:off x="1270080" y="1812600"/>
              <a:ext cx="65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1270080" y="181260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7291440" y="1457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"/>
            <p:cNvSpPr/>
            <p:nvPr/>
          </p:nvSpPr>
          <p:spPr>
            <a:xfrm>
              <a:off x="916200" y="4479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8"/>
          <p:cNvSpPr/>
          <p:nvPr/>
        </p:nvSpPr>
        <p:spPr>
          <a:xfrm>
            <a:off x="2154960" y="5089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.drawRect (50, 20, 100, 4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2440080" y="1432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839880" y="2232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>
            <a:off x="2641680" y="1812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1270080" y="24224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2641680" y="2422440"/>
            <a:ext cx="2590560" cy="990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4"/>
          <p:cNvGrpSpPr/>
          <p:nvPr/>
        </p:nvGrpSpPr>
        <p:grpSpPr>
          <a:xfrm>
            <a:off x="2641680" y="3603600"/>
            <a:ext cx="2590560" cy="368280"/>
            <a:chOff x="2641680" y="3603600"/>
            <a:chExt cx="2590560" cy="368280"/>
          </a:xfrm>
        </p:grpSpPr>
        <p:sp>
          <p:nvSpPr>
            <p:cNvPr id="523" name="Line 15"/>
            <p:cNvSpPr/>
            <p:nvPr/>
          </p:nvSpPr>
          <p:spPr>
            <a:xfrm>
              <a:off x="2641680" y="364140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6"/>
            <p:cNvSpPr/>
            <p:nvPr/>
          </p:nvSpPr>
          <p:spPr>
            <a:xfrm>
              <a:off x="3706560" y="36036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7"/>
          <p:cNvGrpSpPr/>
          <p:nvPr/>
        </p:nvGrpSpPr>
        <p:grpSpPr>
          <a:xfrm>
            <a:off x="5460840" y="2422440"/>
            <a:ext cx="411120" cy="990360"/>
            <a:chOff x="5460840" y="2422440"/>
            <a:chExt cx="411120" cy="990360"/>
          </a:xfrm>
        </p:grpSpPr>
        <p:sp>
          <p:nvSpPr>
            <p:cNvPr id="526" name="Line 18"/>
            <p:cNvSpPr/>
            <p:nvPr/>
          </p:nvSpPr>
          <p:spPr>
            <a:xfrm>
              <a:off x="5460840" y="242244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462640" y="2765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Footer Placeholder 2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an O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916200" y="1397160"/>
            <a:ext cx="6906960" cy="3479760"/>
            <a:chOff x="916200" y="1397160"/>
            <a:chExt cx="6906960" cy="3479760"/>
          </a:xfrm>
        </p:grpSpPr>
        <p:sp>
          <p:nvSpPr>
            <p:cNvPr id="531" name="Line 4"/>
            <p:cNvSpPr/>
            <p:nvPr/>
          </p:nvSpPr>
          <p:spPr>
            <a:xfrm>
              <a:off x="1270080" y="1752480"/>
              <a:ext cx="65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1270080" y="1752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6"/>
            <p:cNvSpPr/>
            <p:nvPr/>
          </p:nvSpPr>
          <p:spPr>
            <a:xfrm>
              <a:off x="729144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7"/>
            <p:cNvSpPr/>
            <p:nvPr/>
          </p:nvSpPr>
          <p:spPr>
            <a:xfrm>
              <a:off x="91620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2079000" y="52959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.drawOval (175, 20, 50, 8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599000" y="1371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83988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4851360" y="1752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1270080" y="23623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4851360" y="2362320"/>
            <a:ext cx="1600200" cy="19047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14"/>
          <p:cNvGrpSpPr/>
          <p:nvPr/>
        </p:nvGrpSpPr>
        <p:grpSpPr>
          <a:xfrm>
            <a:off x="4851360" y="4381560"/>
            <a:ext cx="1600200" cy="368280"/>
            <a:chOff x="4851360" y="4381560"/>
            <a:chExt cx="1600200" cy="368280"/>
          </a:xfrm>
        </p:grpSpPr>
        <p:sp>
          <p:nvSpPr>
            <p:cNvPr id="542" name="Line 15"/>
            <p:cNvSpPr/>
            <p:nvPr/>
          </p:nvSpPr>
          <p:spPr>
            <a:xfrm>
              <a:off x="4851360" y="44197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6"/>
            <p:cNvSpPr/>
            <p:nvPr/>
          </p:nvSpPr>
          <p:spPr>
            <a:xfrm>
              <a:off x="5510160" y="4381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7"/>
          <p:cNvGrpSpPr/>
          <p:nvPr/>
        </p:nvGrpSpPr>
        <p:grpSpPr>
          <a:xfrm>
            <a:off x="6603840" y="2362320"/>
            <a:ext cx="411120" cy="1904760"/>
            <a:chOff x="6603840" y="2362320"/>
            <a:chExt cx="411120" cy="1904760"/>
          </a:xfrm>
        </p:grpSpPr>
        <p:sp>
          <p:nvSpPr>
            <p:cNvPr id="545" name="Line 18"/>
            <p:cNvSpPr/>
            <p:nvPr/>
          </p:nvSpPr>
          <p:spPr>
            <a:xfrm>
              <a:off x="6603840" y="23623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9"/>
            <p:cNvSpPr/>
            <p:nvPr/>
          </p:nvSpPr>
          <p:spPr>
            <a:xfrm>
              <a:off x="6605640" y="31748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Oval 20"/>
          <p:cNvSpPr/>
          <p:nvPr/>
        </p:nvSpPr>
        <p:spPr>
          <a:xfrm>
            <a:off x="4851360" y="2362320"/>
            <a:ext cx="1600200" cy="19047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2547360" y="3659040"/>
            <a:ext cx="140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bo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2"/>
          <p:cNvSpPr/>
          <p:nvPr/>
        </p:nvSpPr>
        <p:spPr>
          <a:xfrm>
            <a:off x="3936960" y="4038480"/>
            <a:ext cx="838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2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an Ar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28600" y="1066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c is defined by an oval, a start angle, and an arc ang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762120" y="2209680"/>
            <a:ext cx="7696080" cy="3886200"/>
            <a:chOff x="762120" y="2209680"/>
            <a:chExt cx="7696080" cy="3886200"/>
          </a:xfrm>
        </p:grpSpPr>
        <p:sp>
          <p:nvSpPr>
            <p:cNvPr id="555" name="TextBox 5"/>
            <p:cNvSpPr/>
            <p:nvPr/>
          </p:nvSpPr>
          <p:spPr>
            <a:xfrm>
              <a:off x="762120" y="2209680"/>
              <a:ext cx="769608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5" descr="fig02_14.tif"/>
            <p:cNvPicPr/>
            <p:nvPr/>
          </p:nvPicPr>
          <p:blipFill>
            <a:blip r:embed="rId1"/>
            <a:stretch/>
          </p:blipFill>
          <p:spPr>
            <a:xfrm>
              <a:off x="1066680" y="2361960"/>
              <a:ext cx="7010280" cy="3594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rawing surface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aphics context has a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eground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an be set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ma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nowma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basic drawing methods and the use of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Appl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man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pp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snow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D = 1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P = 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0, 175, 300, 5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-40, -40, 80, 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5"/>
          <p:cNvSpPr/>
          <p:nvPr/>
        </p:nvSpPr>
        <p:spPr>
          <a:xfrm>
            <a:off x="609480" y="8240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20, TOP, 40, 40);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35, TOP+35, 70, 5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 t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50, TOP+80, 100, 6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wer t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10, TOP+10, 5, 5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ft 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+5, TOP+10, 5, 5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ight 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MID-10, TOP+20, 20, 10, 190, 16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m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-25, TOP+60, MID-50, TOP+4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ft 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+25, TOP+60, MID+55, TOP+6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ight 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-20, TOP+5, MID+20, TOP+5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im of 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MID-15, TOP-20, 30, 25);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p of 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609480" y="8240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20, TOP, 40, 40);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35, TOP+35, 70, 5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 t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50, TOP+80, 100, 6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wer t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10, TOP+10, 5, 5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ft 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+5, TOP+10, 5, 5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ight 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MID-10, TOP+20, 20, 10, 190, 16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m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-25, TOP+60, MID-50, TOP+4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ft 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+25, TOP+60, MID+55, TOP+6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ight 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-20, TOP+5, MID+20, TOP+5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im of 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MID-15, TOP-20, 30, 25);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p of 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"/>
          <p:cNvGrpSpPr/>
          <p:nvPr/>
        </p:nvGrpSpPr>
        <p:grpSpPr>
          <a:xfrm>
            <a:off x="2133720" y="609480"/>
            <a:ext cx="4952880" cy="3933720"/>
            <a:chOff x="2133720" y="609480"/>
            <a:chExt cx="4952880" cy="3933720"/>
          </a:xfrm>
        </p:grpSpPr>
        <p:sp>
          <p:nvSpPr>
            <p:cNvPr id="567" name="TextBox 3"/>
            <p:cNvSpPr/>
            <p:nvPr/>
          </p:nvSpPr>
          <p:spPr>
            <a:xfrm>
              <a:off x="2133720" y="609480"/>
              <a:ext cx="4952880" cy="3933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4" descr="Screen shot 2011-02-12 at 6.54.50 PM.png"/>
            <p:cNvPicPr/>
            <p:nvPr/>
          </p:nvPicPr>
          <p:blipFill>
            <a:blip r:embed="rId1"/>
            <a:stretch/>
          </p:blipFill>
          <p:spPr>
            <a:xfrm>
              <a:off x="2719800" y="914040"/>
              <a:ext cx="3809880" cy="3340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laration and use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s and operator prece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ing input from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23:13:06Z</dcterms:created>
  <dc:creator>usnidem</dc:creator>
  <dc:description/>
  <dc:language>en-US</dc:language>
  <cp:lastModifiedBy>Noreen Elliott</cp:lastModifiedBy>
  <dcterms:modified xsi:type="dcterms:W3CDTF">2013-08-12T20:17:00Z</dcterms:modified>
  <cp:revision>22</cp:revision>
  <dc:subject/>
  <dc:title>Chapter #, Title</dc:title>
</cp:coreProperties>
</file>